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49C-CBBB-43AD-93CD-4E69009F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2DD-F4BE-48BA-A165-70AC8376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4E0-6632-4243-B550-D25F8B27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FF1-A7DE-47DA-B63B-E7338F19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057-2E28-49DF-97D2-81BD87C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F50-B6CC-4768-B687-BB4157FC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90D-4984-4B66-8ED4-DD95A6C2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4A4-F27B-4EDE-8596-50C3C06E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F1B-AEDC-4EE1-8CA8-878283AB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351-A8D6-447B-A094-57FE172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8E3-8767-437D-ABDC-587466CB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970-CFE5-4F83-80FB-3B25297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DEFE-345E-406C-A68A-888B84E3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Funküberwachung</cp:lastModifiedBy>
  <cp:lastPrinted>2002-02-22T08:53:23Z</cp:lastPrinted>
  <dcterms:modified xsi:type="dcterms:W3CDTF">2003-07-24T08:20:27Z</dcterms:modified>
  <cp:revision>196</cp:revision>
  <dc:subject/>
  <dc:title>BOS-Funkkanäle in Hessen</dc:title>
</cp:coreProperties>
</file>