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C2D-19B1-4694-942C-D6A14887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CAB-748F-4A31-953B-A81B837F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37E-7968-49CC-BC42-54617A2D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A52-4F27-48D2-A85D-A0B6BF91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B51-D6B7-40C1-A0C2-B83D07F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C74-BC2E-4D1B-8574-FCA84F4E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C63-66EA-447C-9C7A-E0398EAC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5F3-8809-4935-8CDA-29B602FE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B79-AACF-4FBE-8F71-3DCC9B84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08F-2C05-47DD-B9FD-F5E266D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06F-F2A9-4334-AB0C-7B6F4A53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6BC-C0AD-4254-A6C8-5B01ABA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43AF-AC7B-483E-B908-DC26A70A0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e.l.</cp:lastModifiedBy>
  <cp:lastPrinted>2002-02-22T08:53:23Z</cp:lastPrinted>
  <dcterms:modified xsi:type="dcterms:W3CDTF">2007-01-24T07:01:14Z</dcterms:modified>
  <cp:revision>197</cp:revision>
  <dc:subject/>
  <dc:title>BOS-Funkkanäle in Hessen</dc:title>
</cp:coreProperties>
</file>