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FBC-02BA-48A6-B230-ACFE25D6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591-C40E-4F2F-A343-3597BF4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DEC-99E2-4C75-A8D8-40C33921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CFA-783F-42A5-930A-D8A6111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3A7-F730-4A75-BCFE-2E16390D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DEE-EEC5-4F0B-A069-4AD5242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5E2-BD1B-44AF-A78D-0EC00D5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BFF-5F55-4070-8FE5-0D5DEE3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4D7-425E-492B-8C80-A3D36A9F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B15-90A0-4F28-975F-2281280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D3C-7336-4386-BC90-02A3359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EDC-76E1-4EA7-86E8-2DD12FD1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A19A-C3B1-4871-A284-8F28DA7F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e.l.</cp:lastModifiedBy>
  <cp:lastPrinted>2002-02-22T08:53:23Z</cp:lastPrinted>
  <dcterms:modified xsi:type="dcterms:W3CDTF">2007-01-24T07:01:14Z</dcterms:modified>
  <cp:revision>197</cp:revision>
  <dc:subject/>
  <dc:title>BOS-Funkkanäle in Hessen</dc:title>
</cp:coreProperties>
</file>