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913-52DD-47A8-A923-AB581115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2E6-8D16-4D04-AC7A-68CB9713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AD6-D912-487A-9B7D-9BADFC9C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78E-AE8F-4CE3-B7DF-4882588B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A18-298D-41C5-963C-9477480B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242-65D5-43A5-8C70-12D9095C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A99-15C8-48B2-AE2E-2038EB63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6E3-F1A4-4303-ADA7-61F8155C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8A9-3A0F-40CF-8AB7-3E03A687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858-48F7-434B-81C7-6BEA569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A24-9AE3-4EB1-B5A8-7FB4B5C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C80-1E6F-455D-8196-9BE4905A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5A3A-D678-487B-B598-1FE532EF3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e.l.</cp:lastModifiedBy>
  <cp:lastPrinted>2002-02-22T08:53:23Z</cp:lastPrinted>
  <dcterms:modified xsi:type="dcterms:W3CDTF">2007-01-24T07:01:14Z</dcterms:modified>
  <cp:revision>197</cp:revision>
  <dc:subject/>
  <dc:title>BOS-Funkkanäle in Hessen</dc:title>
</cp:coreProperties>
</file>