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495-E101-4EB0-8BA3-BE6DEE45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6E5-DD6A-457A-B14E-52FECB9D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261-E37C-48D5-B7CA-608AD0DB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ED2-CAA8-4AAE-AF12-B499C807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2FE-7499-46AE-838C-292028B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47F-A8F9-41B4-B941-323F92AA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498-4136-45B5-8B72-DA4978D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E55-A50B-48D2-8B70-12FDFD7C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6C0-F44B-4015-9AD1-63B9939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E1A-53C9-4003-908F-BE893B3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05B-D39B-4E37-AB6A-6073A61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752-9897-477D-B5D2-07F45610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6948-EBC7-45B0-B74E-49A4195B0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e.l.</cp:lastModifiedBy>
  <cp:lastPrinted>2002-02-22T08:53:23Z</cp:lastPrinted>
  <dcterms:modified xsi:type="dcterms:W3CDTF">2007-01-24T07:01:14Z</dcterms:modified>
  <cp:revision>197</cp:revision>
  <dc:subject/>
  <dc:title>BOS-Funkkanäle in Hessen</dc:title>
</cp:coreProperties>
</file>