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B554-1B3D-48F1-9724-DFD1BB566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5BAD-9D91-4EAB-9FE5-834CEDF8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22ED-4D8A-48C6-AD19-0ED381A4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DFD3-015E-44F8-AAE9-4D212E74E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8F8F-12A2-41B8-B25B-F63C80E7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F48D-E035-4823-A279-52377EEB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67E0-EB15-4EAE-82B2-9DD9B369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A7E7-7E9A-4EBE-B9ED-0DC0F135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FC6F-9057-4CBF-97D4-8D3BBC9E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43CA-12BF-4865-9849-0A6955DD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534B-F114-419C-B1B3-ABECA132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D539-5A99-45E7-AAA5-79809639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966F-2680-4107-BA16-482BEB5448EE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1D7D-FC49-46D9-B3EC-FE80C5285B2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670720" y="1338120"/>
            <a:ext cx="3168360" cy="2853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ilt in dieser Form nur für GP 900 11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Trupp erhält das Funk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rät und schaltet 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ipp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be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r Beginn seines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trages auf Stellung „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 erklingen Aufmerksam-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tstöne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Sicherungsmodu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aktiv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le 3 Minut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endet des Funkgerät kurz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merksamkeitstön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, durch Betätigen der Sprechtaste erfolg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ittier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Zeit dafür 30 Sekund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folgt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aktivierung nicht innerhal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0 Sekund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geht das Funkgerät in den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Rettungsmodu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üb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534960" y="216000"/>
            <a:ext cx="807552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cherungs- bzw. Rettungsmod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72360" y="2781360"/>
            <a:ext cx="936360" cy="79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6CEC-B048-4D54-BFC8-2C69833DA7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848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cherungs- bzw. Rettungsmod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476360"/>
            <a:ext cx="8820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ttungsmod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 Funkgerä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chse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igenständig sofor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n primären Arbeitskanal (Potsdam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5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egal welcher Funkkanal zuvor eingestellt wa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lösu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vallrhythm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n 5 Sekunden Da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feift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feift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fa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 Rettungsmodus (Zustand Senden) muss am Funkgerät des Trupps keine Sprechtaste betätigt werden, es wird alles übertra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ttungsmod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t solang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ti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kgerä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geschalt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rd. Zurückschalten d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ppschal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uf Stellung „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aktivie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usschließlich d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icherungsmod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ofern kein Alarm auslös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031D-AAE5-4F5C-92DF-6F99AE0A33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0T13:52:57Z</dcterms:created>
  <dc:creator>Knut Schellhorn</dc:creator>
  <dc:description/>
  <dc:language>en-US</dc:language>
  <cp:lastModifiedBy>Administrator</cp:lastModifiedBy>
  <dcterms:modified xsi:type="dcterms:W3CDTF">2006-01-27T16:40:20Z</dcterms:modified>
  <cp:revision>75</cp:revision>
  <dc:subject/>
  <dc:title>Funkausbildung</dc:title>
</cp:coreProperties>
</file>