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43E3-A7DE-4729-924C-863FEF796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4285-C828-4046-8610-21E8E411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705E-B0C2-4A10-85C0-484CF7460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12F2-1425-4A53-B7CE-6E00673C0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D04B-558D-4A02-88B6-8734C0BE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4ED2-CC3E-4EBC-AF45-8D80C03D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AA5B-D217-4F1A-8D4B-6F26172A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F74C-A709-4255-9B80-3C8244E5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389B-0ECC-48BB-917E-21B8BDE5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BB20-DF35-4DF4-AE57-3ACB0E4D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EA87-F4E4-41D3-8507-47F831A4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D36E-F242-4396-A825-1E065191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779F-027B-4AD8-B58D-3368248FF089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6D0D-AEA1-409A-B74C-DE5E95612BB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670720" y="1338120"/>
            <a:ext cx="3168360" cy="2853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ilt in dieser Form nur für GP 900 11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Trupp erhält das Funk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rät und schaltet 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ipp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be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r Beginn seines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trages auf Stellung „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s erklingen Aufmerksam-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tstöne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Sicherungsmodu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 aktiv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le 3 Minut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endet des Funkgerät kurz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merksamkeitstön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, durch Betätigen der Sprechtaste erfolg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uittier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Zeit dafür 30 Sekund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folgt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aktivierung nicht innerhal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0 Sekund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geht das Funkgerät in den 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Rettungsmodu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üb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534960" y="216000"/>
            <a:ext cx="807552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cherungs- bzw. Rettungsmod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72360" y="2781360"/>
            <a:ext cx="936360" cy="79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91B8-B38A-428E-A075-D27AC0B36B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848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cherungs- bzw. Rettungsmod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476360"/>
            <a:ext cx="8820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ttungsmod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s Funkgerä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chse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igenständig sofor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n primären Arbeitskanal (Potsdam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5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egal welcher Funkkanal zuvor eingestellt wa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lösu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vallrhythm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on 5 Sekunden Dau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feift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feift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pfa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 Rettungsmodus (Zustand Senden) muss am Funkgerät des Trupps keine Sprechtaste betätigt werden, es wird alles übertra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ttungsmod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t solang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ti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kgerä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sgeschalt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rd. Zurückschalten d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ppschal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uf Stellung „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aktivie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usschließlich d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icherungsmod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ofern kein Alarm auslös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5D20-F21E-42FF-AF3B-239F8B6436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0T13:52:57Z</dcterms:created>
  <dc:creator>Knut Schellhorn</dc:creator>
  <dc:description/>
  <dc:language>en-US</dc:language>
  <cp:lastModifiedBy>Administrator</cp:lastModifiedBy>
  <dcterms:modified xsi:type="dcterms:W3CDTF">2006-01-27T16:40:20Z</dcterms:modified>
  <cp:revision>75</cp:revision>
  <dc:subject/>
  <dc:title>Funkausbildung</dc:title>
</cp:coreProperties>
</file>