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C90-CF3C-4B5B-8916-A7509CC2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76D-98B4-4830-AA08-6605658E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24E-C800-4572-BE3D-3092A761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F87-0ADC-4B7B-BE8A-545601DA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13D-7824-4B70-8D52-708E5AAB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975-65E1-4F6C-992E-9355854A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176-A173-480F-A489-DB3468B4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049-44F5-4911-9187-65AB8EB3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079-D6BA-4D07-A284-3B9AF9C4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DB7-4B72-4720-84B1-15CF560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813-EA6A-4B37-9242-82E84182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637-53B0-456E-B056-A7CB5A8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DCBA-29BA-4343-BCBA-54EDD14920E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01DD-19B7-4272-AD1E-15FA48ABD9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70720" y="1338120"/>
            <a:ext cx="3168360" cy="285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in dieser Form nur für GP 900 1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Trupp erhält das Fun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ät und schalte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p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b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 Beginn seines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es auf Stellung „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erklingen Aufmerksam-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tstöne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aktiv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3 Minu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ndet des Funkgerät kurz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merksamkeitstö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, durch Betätigen der Sprechtaste erfolg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itti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eit dafür 30 Sekun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olgt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aktivierung nicht innerhal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0 Sekun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eht das Funkgerät in den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üb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4960" y="21600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781360"/>
            <a:ext cx="9363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127-DA75-4695-AD61-2AAE869736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848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7636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Funkgerä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chse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genständig sofo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 primären Arbeitskanal (Potsdam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gal welcher Funkkanal zuvor eingestellt w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lösu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lrhyth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5 Sekunden D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fa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Rettungsmodus (Zustand Senden) muss am Funkgerät des Trupps keine Sprechtaste betätigt werden, es wird alles übert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solang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kger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geschal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rd. Zurückschalten 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ppschal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f Stellung „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ktivi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schließlich d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fern kein Alarm auslö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5FA-36CB-4D64-BF33-4AF1E1A018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3:52:57Z</dcterms:created>
  <dc:creator>Knut Schellhorn</dc:creator>
  <dc:description/>
  <dc:language>en-US</dc:language>
  <cp:lastModifiedBy>Administrator</cp:lastModifiedBy>
  <dcterms:modified xsi:type="dcterms:W3CDTF">2006-01-27T16:40:20Z</dcterms:modified>
  <cp:revision>75</cp:revision>
  <dc:subject/>
  <dc:title>Funkausbildung</dc:title>
</cp:coreProperties>
</file>