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C97-474F-4D30-9D24-A9BCA1C9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C06-9449-4274-852A-0D675C72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BA5-6BD7-4FA3-96D9-CE4771BF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70B-A23D-4D62-BB0D-5068CE47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CC0-B5A2-4F3C-80B4-8BDF76CC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288-69B3-4A12-B6A6-1EF7168D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FC9-29FC-4917-8E62-F78F38E2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167-B1F4-46C1-BD65-0BA3BA32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A45-6FFD-4518-BF86-BB9D23E9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A0F-0C5C-4D48-900F-02E87CD7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F8B-10A4-41EF-AAB7-21189FCB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EDA-F4A6-4AE5-8C4C-B69B75E6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4AE6-93F3-48EA-9BE4-C90853AE8A0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1D1B-5E09-421A-BCDE-56F72FC5BE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670720" y="1338120"/>
            <a:ext cx="3168360" cy="285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in dieser Form nur für GP 900 11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Trupp erhält das Funk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ät und schalte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ipp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b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 Beginn seines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es auf Stellung „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erklingen Aufmerksam-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tstöne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aktiv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3 Minu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ndet des Funkgerät kurz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merksamkeitstö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, durch Betätigen der Sprechtaste erfolg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ittier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Zeit dafür 30 Sekun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olgt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aktivierung nicht innerhal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0 Sekun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eht das Funkgerät in den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üb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4960" y="21600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2781360"/>
            <a:ext cx="93636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07F-2BCE-4F66-906C-68DB765004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848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7636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Funkgerä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chse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genständig sofo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 primären Arbeitskanal (Potsdam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gal welcher Funkkanal zuvor eingestellt w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lösu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allrhyth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5 Sekunden Da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fa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Rettungsmodus (Zustand Senden) muss am Funkgerät des Trupps keine Sprechtaste betätigt werden, es wird alles übert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solang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kgerä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geschalt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rd. Zurückschalten 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ppschal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f Stellung „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ktivi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schließlich d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fern kein Alarm auslö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B78-7D5A-415B-90B3-62CF9725B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3:52:57Z</dcterms:created>
  <dc:creator>Knut Schellhorn</dc:creator>
  <dc:description/>
  <dc:language>en-US</dc:language>
  <cp:lastModifiedBy>Administrator</cp:lastModifiedBy>
  <dcterms:modified xsi:type="dcterms:W3CDTF">2006-01-27T16:40:20Z</dcterms:modified>
  <cp:revision>75</cp:revision>
  <dc:subject/>
  <dc:title>Funkausbildung</dc:title>
</cp:coreProperties>
</file>