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25C-2715-40E1-A7E4-1ED92B40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FB0-9779-47F4-BE5D-8CDFC0C6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D1F-0418-42F6-B07B-F8CFA378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AEC-9408-4A13-9E23-B30C613C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669-7E15-4292-9ED9-ABBBAF0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25E-79A6-42A5-9F2F-E6967AD4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D20-712D-4DF9-A4BB-420F9978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A2C-8DAB-4EF8-A4A3-67393DE3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985-2418-423B-AB42-3F498897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7F3-BE2F-46A6-B6E7-6E147BF1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4FD-06DC-4230-AA13-D1BCC96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C03-7EED-4F73-9D56-70B6DB3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EC9-98D7-40B1-82EC-6664C797F06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AC2F-7FDA-40CD-8D1C-401CF29341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670720" y="1338120"/>
            <a:ext cx="3168360" cy="285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in dieser Form nur für GP 900 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Trupp erhält das Funk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ät und schalte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ipp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b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 Beginn seines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es auf Stellung „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 erklingen Aufmerksam-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tstöne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aktiv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3 Minu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ndet des Funkgerät kurz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merksamkeitstön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, durch Betätigen der Sprechtaste erfolg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ittier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Zeit dafür 30 Sekund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olgt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aktivierung nicht innerha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0 Sekun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geht das Funkgerät in d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üb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534960" y="216000"/>
            <a:ext cx="8075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72360" y="2781360"/>
            <a:ext cx="93636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E9D-E2EC-4027-B512-4889F6F180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848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cherungs- bzw. Rettungsmo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Funkgerä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chse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genständig sofo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 primären Arbeitskanal (Potsdam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gal welcher Funkkanal zuvor eingestellt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lösu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allrhyth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5 Sekunden D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eif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fa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Rettungsmodus (Zustand Senden) muss am Funkgerät des Trupps keine Sprechtaste betätigt werden, es wird alles übert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t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solang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ger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geschalt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. Zurückschalten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ppschal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f Stellung „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ktivi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schließlich d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cherungsmod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fern kein Alarm auslö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5F3-1EBE-4F4F-9A9C-B1CD34482F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3:52:57Z</dcterms:created>
  <dc:creator>Knut Schellhorn</dc:creator>
  <dc:description/>
  <dc:language>en-US</dc:language>
  <cp:lastModifiedBy>Administrator</cp:lastModifiedBy>
  <dcterms:modified xsi:type="dcterms:W3CDTF">2006-01-27T16:40:20Z</dcterms:modified>
  <cp:revision>75</cp:revision>
  <dc:subject/>
  <dc:title>Funkausbildung</dc:title>
</cp:coreProperties>
</file>