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E9E-8E4D-412C-8638-2CF2FF48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492-DE99-4D40-BF1B-C3A2322C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A8A-CD6D-4D3A-AF04-E7A6980F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7FB-B74D-4148-9120-025AF38F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0D1-A241-4976-B504-EB47F13C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5C9-5AF5-47AF-95E5-A0F9A735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2B4-A521-49A6-B721-34CFF185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4A0-A5AF-4C5A-9DD3-7A1B341B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B11-DEE8-4F98-BD34-C8E9467E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2C2-095B-429F-82A3-0A34C30D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F5E-AC31-40B2-B12F-012AC7D0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FE5-24C6-4ACC-94F6-4DE91F25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D5B3-6427-4F56-8733-2FED64CE19BE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288-6A8B-40FA-A504-FE291C28D6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70720" y="1338120"/>
            <a:ext cx="3168360" cy="285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in dieser Form nur für GP 900 1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Trupp erhält das Fun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ät und schalte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p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b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 Beginn seines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es auf Stellung „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erklingen Aufmerksam-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tstöne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aktiv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3 Minu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ndet des Funkgerät kurz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merksamkeitstö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, durch Betätigen der Sprechtaste erfolg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itti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eit dafür 30 Sekun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olgt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aktivierung nicht innerhal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0 Sekun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eht das Funkgerät in den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üb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4960" y="21600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781360"/>
            <a:ext cx="9363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120-FD5B-44E4-AB5B-A0E4DCF170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848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7636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Funkgerä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chse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genständig sofo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 primären Arbeitskanal (Potsdam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gal welcher Funkkanal zuvor eingestellt w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lösu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lrhyth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5 Sekunden D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fa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Rettungsmodus (Zustand Senden) muss am Funkgerät des Trupps keine Sprechtaste betätigt werden, es wird alles übert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solang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kger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geschal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rd. Zurückschalten 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ppschal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f Stellung „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ktivi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schließlich d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fern kein Alarm auslö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677-A508-494D-A421-9804AA3A3F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3:52:57Z</dcterms:created>
  <dc:creator>Knut Schellhorn</dc:creator>
  <dc:description/>
  <dc:language>en-US</dc:language>
  <cp:lastModifiedBy>Administrator</cp:lastModifiedBy>
  <dcterms:modified xsi:type="dcterms:W3CDTF">2006-01-27T16:40:20Z</dcterms:modified>
  <cp:revision>75</cp:revision>
  <dc:subject/>
  <dc:title>Funkausbildung</dc:title>
</cp:coreProperties>
</file>