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F0C-8B90-4554-A287-1CC1B253D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AD91-70B6-4C8F-84B2-7F5615DF0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E66-4C6A-43EA-9D90-822E537E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9459-C583-4BF0-B5F0-4837F0830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478-43A3-4ECD-9831-633796EA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4E9C-BD7F-4085-9EF3-9DF6CCC2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62F-4970-47AB-99BC-6ED1AA90A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CC2E-075D-4B63-9ED6-C2AD1C76C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558A-D5E3-40D3-B342-D702D7822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450-DC6D-4BBE-B7BD-553FEB7B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BD42-C30F-4BD4-AD45-6C49D38D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03AE-33C8-4F4D-9FD7-C3DAF8DA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85B8-1177-432E-93ED-463A98411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3640" y="2130120"/>
            <a:ext cx="381636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8680" y="2658960"/>
            <a:ext cx="3816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3038400"/>
            <a:ext cx="38163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124000" y="1700280"/>
            <a:ext cx="38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•••••••••••••••••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56000" y="37130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360" y="37130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2333520" y="43610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0800" y="43610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49280" y="43862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383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17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98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765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590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36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61800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9728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7836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15764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3387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007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958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856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8920" y="285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62720" y="2852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383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717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98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765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590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369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1800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972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7836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57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38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00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14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85928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4180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21964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00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62720" y="19162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3560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35600" y="3284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9600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96000" y="1916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659640" y="270828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80972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080" y="2914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24720" y="2060640"/>
            <a:ext cx="12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62680" y="19591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22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47800" y="2852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63640" y="234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7320" y="240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7561080" cy="4175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72360" y="828720"/>
            <a:ext cx="0" cy="496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226720" y="2655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5661000"/>
            <a:ext cx="7777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2000" y="582444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1T11:00:42Z</dcterms:created>
  <dc:creator>Jef Jefferson</dc:creator>
  <dc:description/>
  <dc:language>en-US</dc:language>
  <cp:lastModifiedBy>Jef Jefferson</cp:lastModifiedBy>
  <dcterms:modified xsi:type="dcterms:W3CDTF">2004-06-11T11:44:41Z</dcterms:modified>
  <cp:revision>2</cp:revision>
  <dc:subject/>
  <dc:title>••••••••••••••••••</dc:title>
</cp:coreProperties>
</file>