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BB0-6F4A-4609-A737-CE4C320C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8ABF-1700-47A8-8B46-4550D77C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47D0-FF4B-466C-9E35-2D444900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2BA7-9F6F-4501-B5D0-1B6A6E87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2E6-6216-4EDB-B284-7788A76F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03E-49D0-4C80-999F-0EF1B791E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3A7-2364-4769-A0F3-3940CDB5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21AB-B5C3-4C72-AE7E-5924304D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E99-28DE-4786-B8D1-9A905286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4BA-6AD1-4067-B334-4AD4AA92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377F-093E-484A-B68A-07A5F7E8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C11C-DA02-4A0E-A639-E052D3A4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5661-E6DF-4323-A80A-6FDEB12D7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2130120"/>
            <a:ext cx="3816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8680" y="265896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03840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1700280"/>
            <a:ext cx="38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333520" y="43610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0800" y="43610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49280" y="4386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38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17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65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90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6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18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9728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78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764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38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958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85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8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3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1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765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590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369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180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97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5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3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14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356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3560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809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2914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06064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62680" y="1959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78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320" y="240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7561080" cy="4175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72360" y="82872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26720" y="2655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66100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2000" y="58244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1:00:42Z</dcterms:created>
  <dc:creator>Jef Jefferson</dc:creator>
  <dc:description/>
  <dc:language>en-US</dc:language>
  <cp:lastModifiedBy>Jef Jefferson</cp:lastModifiedBy>
  <dcterms:modified xsi:type="dcterms:W3CDTF">2004-06-11T11:44:41Z</dcterms:modified>
  <cp:revision>2</cp:revision>
  <dc:subject/>
  <dc:title>••••••••••••••••••</dc:title>
</cp:coreProperties>
</file>