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FE66-C340-4AF9-8C31-6CD0FA09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6D50-F318-4831-8A11-BA058925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6CB5-177C-4B20-A731-409E810F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5F5F-F6C6-4B36-9F22-12BB12C0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3E3C-9411-4A3A-ACFE-E40F671E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376F-4D5E-440D-B45F-12AB2232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48ED-7CE3-4A19-81FD-DEAEC794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8BF9-2A20-42B5-ACC1-204E60C2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CD34-8836-42EC-AF6B-6CE7A0ED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30C1-6DFD-4BD5-8A9D-37861908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E27D-3869-4BA9-BB1E-D78548C4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F8D9-0E63-410C-97A3-4954F5C3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757C-0A33-4979-B7CA-394CA2CF7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3640" y="2130120"/>
            <a:ext cx="3816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8680" y="2658960"/>
            <a:ext cx="3816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3038400"/>
            <a:ext cx="3816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1700280"/>
            <a:ext cx="3816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37130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360" y="37130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333520" y="43610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0800" y="43610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49280" y="4386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383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17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9872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765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5908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369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18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9728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783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5764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387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07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958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85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89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3836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17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8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7656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5908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369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1800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9728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7836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57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38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0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14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5928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4180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19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00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35600" y="28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35600" y="32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96000" y="234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96000" y="19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5964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80972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7080" y="2914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24720" y="206064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62680" y="19591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22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47800" y="28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234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7320" y="240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125360"/>
            <a:ext cx="7561080" cy="4175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72360" y="828720"/>
            <a:ext cx="0" cy="496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26720" y="2655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66100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2000" y="58244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11:00:42Z</dcterms:created>
  <dc:creator>Jef Jefferson</dc:creator>
  <dc:description/>
  <dc:language>en-US</dc:language>
  <cp:lastModifiedBy>Jef Jefferson</cp:lastModifiedBy>
  <dcterms:modified xsi:type="dcterms:W3CDTF">2004-06-11T11:44:41Z</dcterms:modified>
  <cp:revision>2</cp:revision>
  <dc:subject/>
  <dc:title>••••••••••••••••••</dc:title>
</cp:coreProperties>
</file>