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A45A7-1465-41D8-BE91-4F7E027E4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7173C-DCFA-492C-B94E-DF2AA5C4D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D227D-4189-4FC6-A3F3-8F2B5DBFA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FBDE9-DD88-443B-841C-325DE85B6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C0957-06FC-4765-B249-4FA8B46B3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28709-58EF-4508-8B1C-287CE209B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A72CB-1BFA-473B-AAB2-0D36F165A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09F8D-A29F-47A4-9703-F5B586E35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D7ED8-F2E7-49FB-8CC6-FAD38CEE0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CA274-BE8A-4506-937A-986D3260E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CAA42-C919-469B-BBDD-7FF799A5F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BD9A1-B5D2-4BD6-B1E1-3E8255242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49F36-A29B-4E0A-B405-A9DE19CC1E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123640" y="2130120"/>
            <a:ext cx="381636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••••••••••••••••••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28680" y="2658960"/>
            <a:ext cx="381636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••••••••••••••••••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124000" y="3038400"/>
            <a:ext cx="381636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••••••••••••••••••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124000" y="1700280"/>
            <a:ext cx="381636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••••••••••••••••••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556000" y="371304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700360" y="371304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2333520" y="43610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620800" y="436104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49280" y="4386240"/>
            <a:ext cx="7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 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538360" y="285264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717640" y="285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98720" y="285264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076560" y="285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59080" y="285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36920" y="285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618000" y="285264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797280" y="285264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78360" y="285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157640" y="285264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338720" y="285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00720" y="285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95840" y="285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859280" y="285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038560" y="285264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219640" y="285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398920" y="285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562720" y="285264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38360" y="1916280"/>
            <a:ext cx="0" cy="43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717640" y="1916280"/>
            <a:ext cx="0" cy="43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898720" y="1916280"/>
            <a:ext cx="0" cy="43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076560" y="1916280"/>
            <a:ext cx="0" cy="43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59080" y="1916280"/>
            <a:ext cx="0" cy="43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36920" y="1916280"/>
            <a:ext cx="0" cy="43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618000" y="1916280"/>
            <a:ext cx="0" cy="43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797280" y="1916280"/>
            <a:ext cx="0" cy="43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78360" y="1916280"/>
            <a:ext cx="0" cy="43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157640" y="1916280"/>
            <a:ext cx="0" cy="43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338720" y="1916280"/>
            <a:ext cx="0" cy="43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500720" y="1916280"/>
            <a:ext cx="0" cy="43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1440" y="1916280"/>
            <a:ext cx="0" cy="43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859280" y="1916280"/>
            <a:ext cx="0" cy="43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041800" y="1916280"/>
            <a:ext cx="0" cy="43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219640" y="1916280"/>
            <a:ext cx="0" cy="43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400720" y="1916280"/>
            <a:ext cx="0" cy="43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562720" y="1916280"/>
            <a:ext cx="0" cy="43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835600" y="28526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835600" y="32846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796000" y="234936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796000" y="191628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659640" y="270828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657840" y="180972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877080" y="291456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 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524720" y="2060640"/>
            <a:ext cx="122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862680" y="1959120"/>
            <a:ext cx="7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 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476360" y="2276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747800" y="28526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763640" y="234936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27320" y="240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 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24000" y="1125360"/>
            <a:ext cx="7561080" cy="41752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8172360" y="828720"/>
            <a:ext cx="0" cy="4967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226720" y="2655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 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50920" y="5661000"/>
            <a:ext cx="7777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042000" y="582444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0 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1T11:00:42Z</dcterms:created>
  <dc:creator>Jef Jefferson</dc:creator>
  <dc:description/>
  <dc:language>en-US</dc:language>
  <cp:lastModifiedBy>Jef Jefferson</cp:lastModifiedBy>
  <dcterms:modified xsi:type="dcterms:W3CDTF">2004-06-11T11:44:41Z</dcterms:modified>
  <cp:revision>2</cp:revision>
  <dc:subject/>
  <dc:title>••••••••••••••••••</dc:title>
</cp:coreProperties>
</file>