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655-FB0E-410B-A369-0531E6BC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AA6-4F8B-421E-92E0-01A751A8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A23-99E6-4742-BA40-A8B7E887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BC4-C2F3-452D-94F6-118C6CE5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908-5079-4445-9111-E9D9D906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009-2046-4911-A812-143775A6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9C6-999F-4DB4-9F21-B4FBC547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86A-431A-47AF-851E-218EB51D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726-ED9B-46D0-9022-2F8EFBCD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BBE-1644-4E29-8F89-35F7469C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BE4-2AC9-4AE0-9BA0-A1CF9A33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753-A892-4786-95C3-098E234A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D870-5FFC-400A-BE47-4198D9CE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2130120"/>
            <a:ext cx="3816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8680" y="265896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03840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1700280"/>
            <a:ext cx="38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33520" y="4361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0800" y="43610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49280" y="4386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38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17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65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0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18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97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8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764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38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958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85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8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1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765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590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369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180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97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5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3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14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356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560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809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14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06064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62680" y="1959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78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" y="240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7561080" cy="4175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82872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6720" y="2655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66100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2000" y="58244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1:00:42Z</dcterms:created>
  <dc:creator>Jef Jefferson</dc:creator>
  <dc:description/>
  <dc:language>en-US</dc:language>
  <cp:lastModifiedBy>Jef Jefferson</cp:lastModifiedBy>
  <dcterms:modified xsi:type="dcterms:W3CDTF">2004-06-11T11:44:41Z</dcterms:modified>
  <cp:revision>2</cp:revision>
  <dc:subject/>
  <dc:title>••••••••••••••••••</dc:title>
</cp:coreProperties>
</file>