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EF4-FEA6-49E0-BEE0-6C7A4A74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96C-BDA8-4ABE-AAA0-64C1D8E4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1CC-394D-45C0-BC40-2C9B0382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F92-3108-4930-9619-4A964009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828-EAD9-407B-ACD1-F49E919A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18E-E458-4F2C-953B-FE7E9B17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2A0-5681-48C4-B0CE-ACFFDD4A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5F0-BF5D-451D-AB02-568EF680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7C2-C8EF-449C-B688-467451D5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49A-17AB-4128-BEA7-FE1A6733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26C-F726-4CAB-B31F-22C49A1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60E-487C-43BC-84DE-155BA1A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CD2C-0836-45F8-867F-97EDC55AE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130120"/>
            <a:ext cx="3816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8680" y="265896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03840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700280"/>
            <a:ext cx="38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3520" y="4361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0800" y="43610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49280" y="4386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38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1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65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8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7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8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7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38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58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85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8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1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765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69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8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7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3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14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56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560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809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14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060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2680" y="1959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" y="240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7561080" cy="417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82872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6720" y="2655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2000" y="58244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1:00:42Z</dcterms:created>
  <dc:creator>Jef Jefferson</dc:creator>
  <dc:description/>
  <dc:language>en-US</dc:language>
  <cp:lastModifiedBy>Jef Jefferson</cp:lastModifiedBy>
  <dcterms:modified xsi:type="dcterms:W3CDTF">2004-06-11T11:44:41Z</dcterms:modified>
  <cp:revision>2</cp:revision>
  <dc:subject/>
  <dc:title>••••••••••••••••••</dc:title>
</cp:coreProperties>
</file>