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6CA-1DDD-4009-A49B-9442046F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320-3FED-4352-96E2-3666A049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E94-EFB4-4ABE-B03E-491D83C4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6D3-131C-419B-92B7-A26F5C69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ED5-E7FC-431F-A369-C4765E26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D93-7F17-4B1F-8D68-A1A25292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8CA-D79D-41C0-9010-9A3E2407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449-0ADA-44E4-9322-C0612A3B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37A-B179-4DE1-99A4-D3981C46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65E-A95E-4882-9654-CDA0E738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A8E-51D4-4280-B721-E1D370FF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250-719F-49EC-99B0-D389B096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E0D4-7523-41B4-BE75-DC787EABF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2130120"/>
            <a:ext cx="3816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8680" y="2658960"/>
            <a:ext cx="3816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3038400"/>
            <a:ext cx="3816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1700280"/>
            <a:ext cx="38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37130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37130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333520" y="43610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0800" y="43610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49280" y="4386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38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17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65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590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36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18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9728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78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5764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387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958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85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8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383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1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8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765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590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369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180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972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783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5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38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14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00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3560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3560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19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809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080" y="2914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206064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62680" y="1959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4780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7320" y="240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7561080" cy="4175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72360" y="82872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26720" y="2655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66100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2000" y="58244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1:00:42Z</dcterms:created>
  <dc:creator>Jef Jefferson</dc:creator>
  <dc:description/>
  <dc:language>en-US</dc:language>
  <cp:lastModifiedBy>Jef Jefferson</cp:lastModifiedBy>
  <dcterms:modified xsi:type="dcterms:W3CDTF">2004-06-11T11:44:41Z</dcterms:modified>
  <cp:revision>2</cp:revision>
  <dc:subject/>
  <dc:title>••••••••••••••••••</dc:title>
</cp:coreProperties>
</file>