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143b68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143b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F232-0DD1-420E-8380-CCCFFB0AC8AC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B5BE-ACE4-4072-BE2B-2D1AF567DE55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34E29-4330-4638-BFE9-9934547202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2D44-AAA0-4F2F-9307-F31AB24A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9DD9-16B0-4458-B7F9-EA3EBBD7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43DD-FA6B-4C6F-A8CF-85F7221CE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290D-253A-4752-9F64-FADBE845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FA51-E3B9-4A8A-B1EB-F47132A2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AB12-B629-451E-9FAB-1E7FC2E8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F7A2-B0B9-4C45-85E4-DC940B57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AAD5-72E4-4638-BC11-5B3DA3F4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A4A8-0F83-427B-AFB9-CDA10873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7050-E278-4FBC-B3BE-80D5E2CC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9746-7979-43C3-9BC1-E7BE32C5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0"/>
            <a:ext cx="7101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2520" y="6552720"/>
            <a:ext cx="358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520" y="65527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97b8e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F82-0AC2-43D3-8B53-10583E2C58C9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4"/>
          <p:cNvSpPr/>
          <p:nvPr/>
        </p:nvSpPr>
        <p:spPr>
          <a:xfrm>
            <a:off x="250920" y="406440"/>
            <a:ext cx="504720" cy="358560"/>
          </a:xfrm>
          <a:custGeom>
            <a:avLst/>
            <a:gdLst>
              <a:gd name="textAreaLeft" fmla="*/ 78840 w 504720"/>
              <a:gd name="textAreaRight" fmla="*/ 441720 w 504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6" name="Picture 64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5"/>
          <p:cNvSpPr/>
          <p:nvPr/>
        </p:nvSpPr>
        <p:spPr>
          <a:xfrm>
            <a:off x="0" y="6521400"/>
            <a:ext cx="882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234936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5" name="AutoShape 32"/>
          <p:cNvSpPr/>
          <p:nvPr/>
        </p:nvSpPr>
        <p:spPr>
          <a:xfrm>
            <a:off x="826920" y="3357720"/>
            <a:ext cx="505080" cy="358560"/>
          </a:xfrm>
          <a:custGeom>
            <a:avLst/>
            <a:gdLst>
              <a:gd name="textAreaLeft" fmla="*/ 78840 w 505080"/>
              <a:gd name="textAreaRight" fmla="*/ 442080 w 5050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46" name="Picture 55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ferenz.wav" TargetMode="External"/><Relationship Id="rId2" Type="http://schemas.openxmlformats.org/officeDocument/2006/relationships/hyperlink" Target="file:///tmp/home/.config/libreoffice/4/user/gallery/GSM.wav" TargetMode="External"/><Relationship Id="rId3" Type="http://schemas.openxmlformats.org/officeDocument/2006/relationships/hyperlink" Target="file:///tmp/home/.config/libreoffice/4/user/gallery/Referenz.wav" TargetMode="External"/><Relationship Id="rId4" Type="http://schemas.openxmlformats.org/officeDocument/2006/relationships/hyperlink" Target="file:///tmp/home/.config/libreoffice/4/user/gallery/TETRA_HB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Interaktive Schaltfläche: Nächste(r) oder Weiter 7">
            <a:hlinkClick r:id="rId1"/>
          </p:cNvPr>
          <p:cNvSpPr/>
          <p:nvPr/>
        </p:nvSpPr>
        <p:spPr>
          <a:xfrm>
            <a:off x="611280" y="1341360"/>
            <a:ext cx="576000" cy="574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1641" h="21600">
                <a:moveTo>
                  <a:pt x="0" y="0"/>
                </a:moveTo>
                <a:lnTo>
                  <a:pt x="21641" y="0"/>
                </a:lnTo>
                <a:lnTo>
                  <a:pt x="21641" y="21600"/>
                </a:lnTo>
                <a:lnTo>
                  <a:pt x="0" y="21600"/>
                </a:lnTo>
                <a:close/>
              </a:path>
              <a:path fill="lightenLess" w="21641" h="21600">
                <a:moveTo>
                  <a:pt x="0" y="0"/>
                </a:moveTo>
                <a:lnTo>
                  <a:pt x="21641" y="0"/>
                </a:lnTo>
                <a:lnTo>
                  <a:pt x="20241" y="1400"/>
                </a:lnTo>
                <a:lnTo>
                  <a:pt x="1400" y="1400"/>
                </a:lnTo>
                <a:close/>
              </a:path>
              <a:path fill="darken" w="21641" h="21600">
                <a:moveTo>
                  <a:pt x="21641" y="0"/>
                </a:moveTo>
                <a:lnTo>
                  <a:pt x="21641" y="21600"/>
                </a:lnTo>
                <a:lnTo>
                  <a:pt x="20241" y="20200"/>
                </a:lnTo>
                <a:lnTo>
                  <a:pt x="20241" y="1400"/>
                </a:lnTo>
                <a:close/>
              </a:path>
              <a:path fill="darkenLess" w="21641" h="21600">
                <a:moveTo>
                  <a:pt x="21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1" y="20200"/>
                </a:lnTo>
                <a:close/>
              </a:path>
              <a:path fill="lighten" w="21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1" h="21600">
                <a:moveTo>
                  <a:pt x="3814" y="3794"/>
                </a:moveTo>
                <a:lnTo>
                  <a:pt x="17827" y="10800"/>
                </a:lnTo>
                <a:lnTo>
                  <a:pt x="381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3" name="Textfeld 8"/>
          <p:cNvSpPr/>
          <p:nvPr/>
        </p:nvSpPr>
        <p:spPr>
          <a:xfrm>
            <a:off x="1258920" y="1395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Originaldatei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4" name="Interaktive Schaltfläche: Nächste(r) oder Weiter 9">
            <a:hlinkClick r:id="rId2"/>
          </p:cNvPr>
          <p:cNvSpPr/>
          <p:nvPr/>
        </p:nvSpPr>
        <p:spPr>
          <a:xfrm>
            <a:off x="611280" y="2565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5" name="Textfeld 10"/>
          <p:cNvSpPr/>
          <p:nvPr/>
        </p:nvSpPr>
        <p:spPr>
          <a:xfrm>
            <a:off x="1332000" y="2637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GSM-Mobilfunknetz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13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6" name="Interaktive Schaltfläche: Nächste(r) oder Weiter 11">
            <a:hlinkClick r:id="rId3"/>
          </p:cNvPr>
          <p:cNvSpPr/>
          <p:nvPr/>
        </p:nvSpPr>
        <p:spPr>
          <a:xfrm>
            <a:off x="644400" y="48988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7" name="Textfeld 12"/>
          <p:cNvSpPr/>
          <p:nvPr/>
        </p:nvSpPr>
        <p:spPr>
          <a:xfrm>
            <a:off x="1366920" y="5013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Analogfunk (4m)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8" name="Interaktive Schaltfläche: Nächste(r) oder Weiter 15">
            <a:hlinkClick r:id="rId4"/>
          </p:cNvPr>
          <p:cNvSpPr/>
          <p:nvPr/>
        </p:nvSpPr>
        <p:spPr>
          <a:xfrm>
            <a:off x="611280" y="37036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9" name="Textfeld 16"/>
          <p:cNvSpPr/>
          <p:nvPr/>
        </p:nvSpPr>
        <p:spPr>
          <a:xfrm>
            <a:off x="1403280" y="3789360"/>
            <a:ext cx="76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BOS-Digitalfunknetz (TETRA)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4,567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0" name="Titel 1"/>
          <p:cNvSpPr/>
          <p:nvPr/>
        </p:nvSpPr>
        <p:spPr>
          <a:xfrm>
            <a:off x="990720" y="0"/>
            <a:ext cx="610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gleich GSM, Analogfunk, TETRA</a:t>
            </a:r>
            <a:endParaRPr b="0" lang="en-US" sz="28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1" name="Textfeld 13"/>
          <p:cNvSpPr/>
          <p:nvPr/>
        </p:nvSpPr>
        <p:spPr>
          <a:xfrm>
            <a:off x="539640" y="5896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Die Sprachprobe für die Übertragung im Analogfunk wurde über ein Mikro mit Unterstützung der AS Berlin aufgenommen.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8534520" y="6553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CEE9-CCBB-402F-BDB7-ACCCA2CD60CB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0:32:55Z</dcterms:created>
  <dc:creator>BDBOS, PG ZPM</dc:creator>
  <dc:description/>
  <dc:language>en-US</dc:language>
  <cp:lastModifiedBy>db</cp:lastModifiedBy>
  <dcterms:modified xsi:type="dcterms:W3CDTF">2013-06-09T14:35:53Z</dcterms:modified>
  <cp:revision>698</cp:revision>
  <dc:subject>Informationsveranstaltung PG ZPM und TP FZ</dc:subject>
  <dc:title>Sprachqualität</dc:title>
</cp:coreProperties>
</file>